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FEC-D2CD-4F82-A4C3-DD80D7A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E55-C46E-4EE6-9BD5-5B2504F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B8C-1A3E-400C-BC02-2AEAC1A1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82A-2611-4350-BABD-135481A1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5C9F-D94D-4480-BCCD-F4E4F04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BD6-935A-4B2D-84FC-73A5373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9DD-010D-4885-9037-501477A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9A1-2792-4F5B-A159-6409BE89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CC30-AABC-4C21-BDC7-E85879A0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CA49-E6B4-4AA9-B0DC-2834AA0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969-E8D9-41F9-B169-06D8B01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A45-7388-469E-9CE6-CF5CE559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93BE-41AF-4701-BB79-93842A84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98B2-4E6B-44BF-BC9C-D08DC0F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597E-5F61-45B4-A745-F020FDE4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932-9577-4DD3-9977-9BA247F9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D135-67E1-4A4A-AAB4-10E41354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4B5-8C95-4982-A534-AA5C7F23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F29-EB21-44FA-8C30-E268B4D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40B-195C-49D1-B6FB-2DA7C46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F9A-2C7C-4CE8-BFF2-21DA189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845-7B3F-4AD4-B032-49227C7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E88-AE04-4BF5-8658-CEC6AAB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725-2569-46EE-A448-BA92167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12A-ED25-4BAC-81A8-8CDE789CC1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E2A3-5633-424D-96DA-0106DDBB53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ulgakov.ru/" TargetMode="External"/><Relationship Id="rId2" Type="http://schemas.openxmlformats.org/officeDocument/2006/relationships/hyperlink" Target="http://www.bulgakov.ru/galleries/msk" TargetMode="External"/><Relationship Id="rId3" Type="http://schemas.openxmlformats.org/officeDocument/2006/relationships/hyperlink" Target="http://world.lib.ru/s/smirnow_t_l/bulgakov.shtml" TargetMode="External"/><Relationship Id="rId4" Type="http://schemas.openxmlformats.org/officeDocument/2006/relationships/hyperlink" Target="http://obozrevatel.com/news/2006/1/27/83471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aeaea"/>
                </a:solidFill>
                <a:uFillTx/>
                <a:latin typeface="Arial Rounded MT Bold"/>
              </a:rPr>
              <a:t>Мистика в творчестве Михаила Булгако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4723920"/>
            <a:ext cx="414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удентка филологического факультета, 342 гр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п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71440" y="1981080"/>
            <a:ext cx="30956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частники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11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мет: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а: Кутуз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сновной вопрос нашего проект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ё ли в мире опозна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20544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ист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их произведениях встречаем мистическ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ми способами писатель Михаил Булгаков вводит мистику в свои произвед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ые страшные мотивы в его творчеств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резентации учащихся (по одному из произведен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ублик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419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рассчитан на 4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го 8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в 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мысление и оформление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ов (презента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формационные ресурс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bulgakov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bulgakov.ru/galleries/m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orld.lib.ru/s/smirnow_t_l/bulgakov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obozrevatel.com/news/2006/1/27/83471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55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